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A19-C52F-44EC-9F7F-DAB71EAD6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08F1-08DC-4D08-92C6-8E8DC234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28A-BE16-4E9B-B711-363E707B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5DC-26E2-40FE-AAA3-3105797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5AA-A471-4A3B-B0D2-CBA0074B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ACC-12BA-4A42-8569-90407C55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68CB-E6A0-4BFD-9290-590F45E1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6456-826A-4385-A28E-9A3D056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2DE3-816C-46E8-96C0-D73CE840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5A22-0EB3-400D-AFB7-F8B25C8D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B1C-A406-4578-883B-F390250C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AF6C-517A-49E4-BA32-DA069324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D779-C252-4DA2-BBC9-FBD20E3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46D-A42A-4FF4-A78B-1F1883A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EEFC-D5F3-4921-9605-242484B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EBE8-AE49-41B8-8CE4-81B1542C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942E-797E-4693-85A0-E1E298E1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D83-533A-4CDA-BC48-D5CB472A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0D79-F68D-4F49-91DC-220C3B9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4131-8DDA-4831-87EB-F4F2A6A7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D5C8-A3DA-4D7C-BD8A-C8478D8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AC82-BA57-45B5-9973-69D8F44C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2B8E-83CA-48D2-BF9C-C39AA3C8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EA168-4718-4006-9774-0B423B5E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AC92-A681-4199-9660-21395523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91CA7-726B-4048-BD02-4352694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A974-795F-4751-8912-C5D2B79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56C1-6CDE-4331-9049-4048942E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C2B2-86FA-4AAB-A7CF-D249B5E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AE88B-B8B8-4C3F-A3D1-AAE5559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5C99-7359-4567-A87C-008BDCAA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E608-7711-4376-9816-153B6908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58AE-C1D4-4D42-9290-08FDF077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508E-9382-4AB8-91BC-692F4F5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299C0-E3F4-4EE5-8F9E-751F090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3B6-127D-4AC4-9BAE-1D4E788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22BD-2774-4268-A0B8-A28205B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C915-1F20-4B85-99C7-BBE946EA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F19E-0098-49F2-B393-D2730C56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75CA-1CF6-4A05-9A99-416E9D2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6E32-8A18-409B-A40C-727E0AB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0E97-B04B-4951-BB5A-AE7E981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D502-D891-4907-9F05-97EA8CDE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EBE3-C622-4F54-9E65-FB9C4B49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D4D3-105C-45D9-85D7-33E2D834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1F0-26FE-4B5A-B068-4D28102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8CD-89E9-4790-9574-6830CE2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76F-CAF0-43C5-A194-FDDA304B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93C-D370-464F-BA16-F7071E5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648-8B77-4E81-A8C6-371B754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1462-7AF5-4EBC-9FF3-69C5A71812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AC42-DBB1-4EAE-93B0-0C97146C14C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62F-9AD1-4C63-A18E-14EA8820C95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2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D876-1CED-467B-BE8F-DA8104D2D0C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46200" y="2438280"/>
            <a:ext cx="78516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4617b"/>
                </a:solidFill>
                <a:latin typeface="Calibri"/>
              </a:rPr>
              <a:t>Кодирајуће и некодирајуће секвенце у молекулу Д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0440" y="1869840"/>
            <a:ext cx="87631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Од укупно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једарног генома човека -1,5% су кодирајући регио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У њима се налазе јединствене и умерено-репетитивне секвенц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90% кодирајуће ДНК се транскрибује на иРНК која преноси информацију за синтезу протеи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Гени за полипептиде су јединствени низов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10% кодирајућих региона чине РНК гени а који припадају умерено-репетитивним секвенца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Више од 95% генома је некодирајућа ДНК-високорепетитивне секвенце ДН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4040" y="33480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000" spc="-1" strike="noStrike">
                <a:solidFill>
                  <a:srgbClr val="04617b"/>
                </a:solidFill>
                <a:latin typeface="Calibri"/>
              </a:rPr>
              <a:t>Густина гена на хромозоми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5000" y="1815840"/>
            <a:ext cx="40388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Постоји корелација између заступљености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C</a:t>
            </a: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 базних парова и густине гена-што је већа заступљеност већа је густина ге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Највећу густину гена имају хром. 15, 17, 19, 20, 2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nstantia"/>
              </a:rPr>
              <a:t>Најмању густину гена имају хром. 4, 18, Х и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384880" y="1690560"/>
            <a:ext cx="3743280" cy="4799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4413240" y="2430360"/>
            <a:ext cx="927000" cy="804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4668840" y="3440160"/>
            <a:ext cx="469800" cy="39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4389480" y="4213080"/>
            <a:ext cx="1030320" cy="811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5"/>
          <a:stretch/>
        </p:blipFill>
        <p:spPr>
          <a:xfrm>
            <a:off x="4668840" y="5200560"/>
            <a:ext cx="46656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Псеудогени, фамилије гена, хаплотип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2280" y="1623600"/>
            <a:ext cx="8839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квенце сличне геним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или фрагменти РНК ге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псеудоген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 -функцинално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 неактив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и сличне нуклеотидне секвенце који се налазе на разли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фамилије гена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пр. фамилија гена за 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лобине, рРНК, тРНК, хистоне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0000"/>
                </a:solidFill>
                <a:latin typeface="Arial"/>
                <a:ea typeface="Arial"/>
              </a:rPr>
              <a:t>Суперфамилија ген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-обухвата више фамилија гена (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р. суперфамилија гена за имуноглобулине, суперфамилија рецептора за мирис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се налазе на истом хромозому и детерми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хаплотип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гени за HLA 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стем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Генски алели – </a:t>
            </a:r>
            <a:br>
              <a:rPr sz="4500"/>
            </a:b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генски полиморфиз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28240" y="220932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облици једног истог гена су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генски алел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ли гена настају услед мут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никада нису мутирал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мономорфни ген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су мутира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имају више алелних облика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полиморфни ген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ом електрофорезе закључено је да је код човека 28% гена полиморфно, а 72% гена мономорфн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6,7% гена се налази у хетерозиготном стањ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0000"/>
                </a:solidFill>
                <a:latin typeface="Arial"/>
                <a:ea typeface="Arial"/>
              </a:rPr>
              <a:t>Полиморфни г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935000"/>
            <a:ext cx="85345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ген има два алелна обли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диморфан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(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а) једа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 функционала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а друг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функционала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ген има више алелних облика сви су функционални - сваки од њих доводи до синтезе истог протеина, али постоји разлика у једној или малом броју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сели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пр. ген з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B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истем има три алела А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О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јава да ген има више алелних облика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при чему су сви алели функционалн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 назива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мултипни алелизам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4757400" y="990720"/>
            <a:ext cx="696240" cy="2361600"/>
            <a:chOff x="4757400" y="990720"/>
            <a:chExt cx="696240" cy="2361600"/>
          </a:xfrm>
        </p:grpSpPr>
        <p:grpSp>
          <p:nvGrpSpPr>
            <p:cNvPr id="241" name="Group 3"/>
            <p:cNvGrpSpPr/>
            <p:nvPr/>
          </p:nvGrpSpPr>
          <p:grpSpPr>
            <a:xfrm>
              <a:off x="4757400" y="1046880"/>
              <a:ext cx="696240" cy="2193120"/>
              <a:chOff x="4757400" y="1046880"/>
              <a:chExt cx="696240" cy="2193120"/>
            </a:xfrm>
          </p:grpSpPr>
          <p:sp>
            <p:nvSpPr>
              <p:cNvPr id="242" name="Freeform 4"/>
              <p:cNvSpPr/>
              <p:nvPr/>
            </p:nvSpPr>
            <p:spPr>
              <a:xfrm rot="418800">
                <a:off x="4893480" y="116244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"/>
              <p:cNvSpPr/>
              <p:nvPr/>
            </p:nvSpPr>
            <p:spPr>
              <a:xfrm rot="418800">
                <a:off x="4880880" y="106560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Oval 6"/>
            <p:cNvSpPr/>
            <p:nvPr/>
          </p:nvSpPr>
          <p:spPr>
            <a:xfrm>
              <a:off x="4876920" y="99072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"/>
            <p:cNvSpPr/>
            <p:nvPr/>
          </p:nvSpPr>
          <p:spPr>
            <a:xfrm>
              <a:off x="4876920" y="213336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8"/>
          <p:cNvSpPr/>
          <p:nvPr/>
        </p:nvSpPr>
        <p:spPr>
          <a:xfrm>
            <a:off x="380880" y="0"/>
            <a:ext cx="5791320" cy="86256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ДОМИНАНТНИ АЛЕЛ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a </a:t>
            </a: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РЕЦЕСИВАН АЛ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9"/>
          <p:cNvGrpSpPr/>
          <p:nvPr/>
        </p:nvGrpSpPr>
        <p:grpSpPr>
          <a:xfrm>
            <a:off x="718560" y="1066680"/>
            <a:ext cx="696240" cy="2362320"/>
            <a:chOff x="718560" y="1066680"/>
            <a:chExt cx="696240" cy="2362320"/>
          </a:xfrm>
        </p:grpSpPr>
        <p:grpSp>
          <p:nvGrpSpPr>
            <p:cNvPr id="248" name="Group 10"/>
            <p:cNvGrpSpPr/>
            <p:nvPr/>
          </p:nvGrpSpPr>
          <p:grpSpPr>
            <a:xfrm>
              <a:off x="718560" y="1123200"/>
              <a:ext cx="696240" cy="2193480"/>
              <a:chOff x="718560" y="1123200"/>
              <a:chExt cx="696240" cy="2193480"/>
            </a:xfrm>
          </p:grpSpPr>
          <p:sp>
            <p:nvSpPr>
              <p:cNvPr id="249" name="Freeform 11"/>
              <p:cNvSpPr/>
              <p:nvPr/>
            </p:nvSpPr>
            <p:spPr>
              <a:xfrm rot="418800">
                <a:off x="854640" y="12387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2"/>
              <p:cNvSpPr/>
              <p:nvPr/>
            </p:nvSpPr>
            <p:spPr>
              <a:xfrm rot="418800">
                <a:off x="842040" y="11419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Oval 13"/>
            <p:cNvSpPr/>
            <p:nvPr/>
          </p:nvSpPr>
          <p:spPr>
            <a:xfrm>
              <a:off x="838080" y="1066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838080" y="2209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15"/>
          <p:cNvSpPr/>
          <p:nvPr/>
        </p:nvSpPr>
        <p:spPr>
          <a:xfrm>
            <a:off x="4876920" y="152388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6"/>
          <p:cNvSpPr/>
          <p:nvPr/>
        </p:nvSpPr>
        <p:spPr>
          <a:xfrm>
            <a:off x="1219320" y="0"/>
            <a:ext cx="380880" cy="40464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7"/>
          <p:cNvSpPr/>
          <p:nvPr/>
        </p:nvSpPr>
        <p:spPr>
          <a:xfrm>
            <a:off x="1295280" y="533520"/>
            <a:ext cx="381240" cy="304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8"/>
          <p:cNvGrpSpPr/>
          <p:nvPr/>
        </p:nvGrpSpPr>
        <p:grpSpPr>
          <a:xfrm>
            <a:off x="1252080" y="1066680"/>
            <a:ext cx="696240" cy="2362320"/>
            <a:chOff x="1252080" y="1066680"/>
            <a:chExt cx="696240" cy="2362320"/>
          </a:xfrm>
        </p:grpSpPr>
        <p:grpSp>
          <p:nvGrpSpPr>
            <p:cNvPr id="257" name="Group 19"/>
            <p:cNvGrpSpPr/>
            <p:nvPr/>
          </p:nvGrpSpPr>
          <p:grpSpPr>
            <a:xfrm>
              <a:off x="1252080" y="1123200"/>
              <a:ext cx="696240" cy="2193480"/>
              <a:chOff x="1252080" y="1123200"/>
              <a:chExt cx="696240" cy="2193480"/>
            </a:xfrm>
          </p:grpSpPr>
          <p:sp>
            <p:nvSpPr>
              <p:cNvPr id="258" name="Freeform 20"/>
              <p:cNvSpPr/>
              <p:nvPr/>
            </p:nvSpPr>
            <p:spPr>
              <a:xfrm rot="418800">
                <a:off x="1388160" y="12387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1"/>
              <p:cNvSpPr/>
              <p:nvPr/>
            </p:nvSpPr>
            <p:spPr>
              <a:xfrm rot="418800">
                <a:off x="1375560" y="11419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Oval 22"/>
            <p:cNvSpPr/>
            <p:nvPr/>
          </p:nvSpPr>
          <p:spPr>
            <a:xfrm>
              <a:off x="1371600" y="1066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1371600" y="22096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4"/>
          <p:cNvGrpSpPr/>
          <p:nvPr/>
        </p:nvGrpSpPr>
        <p:grpSpPr>
          <a:xfrm>
            <a:off x="4147560" y="990720"/>
            <a:ext cx="696240" cy="2361600"/>
            <a:chOff x="4147560" y="990720"/>
            <a:chExt cx="696240" cy="2361600"/>
          </a:xfrm>
        </p:grpSpPr>
        <p:grpSp>
          <p:nvGrpSpPr>
            <p:cNvPr id="263" name="Group 25"/>
            <p:cNvGrpSpPr/>
            <p:nvPr/>
          </p:nvGrpSpPr>
          <p:grpSpPr>
            <a:xfrm>
              <a:off x="4147560" y="1046880"/>
              <a:ext cx="696240" cy="2193120"/>
              <a:chOff x="4147560" y="1046880"/>
              <a:chExt cx="696240" cy="2193120"/>
            </a:xfrm>
          </p:grpSpPr>
          <p:sp>
            <p:nvSpPr>
              <p:cNvPr id="264" name="Freeform 26"/>
              <p:cNvSpPr/>
              <p:nvPr/>
            </p:nvSpPr>
            <p:spPr>
              <a:xfrm rot="418800">
                <a:off x="4283640" y="116244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7"/>
              <p:cNvSpPr/>
              <p:nvPr/>
            </p:nvSpPr>
            <p:spPr>
              <a:xfrm rot="418800">
                <a:off x="4271040" y="106560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Oval 28"/>
            <p:cNvSpPr/>
            <p:nvPr/>
          </p:nvSpPr>
          <p:spPr>
            <a:xfrm>
              <a:off x="4267080" y="99072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9"/>
            <p:cNvSpPr/>
            <p:nvPr/>
          </p:nvSpPr>
          <p:spPr>
            <a:xfrm>
              <a:off x="4267080" y="213336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Oval 30"/>
          <p:cNvSpPr/>
          <p:nvPr/>
        </p:nvSpPr>
        <p:spPr>
          <a:xfrm>
            <a:off x="1371600" y="1523880"/>
            <a:ext cx="38088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1"/>
          <p:cNvSpPr/>
          <p:nvPr/>
        </p:nvSpPr>
        <p:spPr>
          <a:xfrm>
            <a:off x="838080" y="1523880"/>
            <a:ext cx="38124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2"/>
          <p:cNvSpPr/>
          <p:nvPr/>
        </p:nvSpPr>
        <p:spPr>
          <a:xfrm>
            <a:off x="4267080" y="1523880"/>
            <a:ext cx="38124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3"/>
          <p:cNvGrpSpPr/>
          <p:nvPr/>
        </p:nvGrpSpPr>
        <p:grpSpPr>
          <a:xfrm>
            <a:off x="642600" y="4038480"/>
            <a:ext cx="696240" cy="2362320"/>
            <a:chOff x="642600" y="4038480"/>
            <a:chExt cx="696240" cy="2362320"/>
          </a:xfrm>
        </p:grpSpPr>
        <p:grpSp>
          <p:nvGrpSpPr>
            <p:cNvPr id="272" name="Group 34"/>
            <p:cNvGrpSpPr/>
            <p:nvPr/>
          </p:nvGrpSpPr>
          <p:grpSpPr>
            <a:xfrm>
              <a:off x="642600" y="4095000"/>
              <a:ext cx="696240" cy="2193480"/>
              <a:chOff x="642600" y="4095000"/>
              <a:chExt cx="696240" cy="2193480"/>
            </a:xfrm>
          </p:grpSpPr>
          <p:sp>
            <p:nvSpPr>
              <p:cNvPr id="273" name="Freeform 35"/>
              <p:cNvSpPr/>
              <p:nvPr/>
            </p:nvSpPr>
            <p:spPr>
              <a:xfrm rot="418800">
                <a:off x="778680" y="42105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6"/>
              <p:cNvSpPr/>
              <p:nvPr/>
            </p:nvSpPr>
            <p:spPr>
              <a:xfrm rot="418800">
                <a:off x="766080" y="41137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Oval 37"/>
            <p:cNvSpPr/>
            <p:nvPr/>
          </p:nvSpPr>
          <p:spPr>
            <a:xfrm>
              <a:off x="762120" y="4038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8"/>
            <p:cNvSpPr/>
            <p:nvPr/>
          </p:nvSpPr>
          <p:spPr>
            <a:xfrm>
              <a:off x="762120" y="5181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9"/>
          <p:cNvGrpSpPr/>
          <p:nvPr/>
        </p:nvGrpSpPr>
        <p:grpSpPr>
          <a:xfrm>
            <a:off x="1175760" y="4038480"/>
            <a:ext cx="696240" cy="2362320"/>
            <a:chOff x="1175760" y="4038480"/>
            <a:chExt cx="696240" cy="2362320"/>
          </a:xfrm>
        </p:grpSpPr>
        <p:grpSp>
          <p:nvGrpSpPr>
            <p:cNvPr id="278" name="Group 40"/>
            <p:cNvGrpSpPr/>
            <p:nvPr/>
          </p:nvGrpSpPr>
          <p:grpSpPr>
            <a:xfrm>
              <a:off x="1175760" y="4095000"/>
              <a:ext cx="696240" cy="2193480"/>
              <a:chOff x="1175760" y="4095000"/>
              <a:chExt cx="696240" cy="2193480"/>
            </a:xfrm>
          </p:grpSpPr>
          <p:sp>
            <p:nvSpPr>
              <p:cNvPr id="279" name="Freeform 41"/>
              <p:cNvSpPr/>
              <p:nvPr/>
            </p:nvSpPr>
            <p:spPr>
              <a:xfrm rot="418800">
                <a:off x="1311840" y="42105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2"/>
              <p:cNvSpPr/>
              <p:nvPr/>
            </p:nvSpPr>
            <p:spPr>
              <a:xfrm rot="418800">
                <a:off x="1299240" y="41137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Oval 43"/>
            <p:cNvSpPr/>
            <p:nvPr/>
          </p:nvSpPr>
          <p:spPr>
            <a:xfrm>
              <a:off x="1295280" y="4038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4"/>
            <p:cNvSpPr/>
            <p:nvPr/>
          </p:nvSpPr>
          <p:spPr>
            <a:xfrm>
              <a:off x="1295280" y="51814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45"/>
          <p:cNvSpPr/>
          <p:nvPr/>
        </p:nvSpPr>
        <p:spPr>
          <a:xfrm>
            <a:off x="304920" y="3276720"/>
            <a:ext cx="2971800" cy="73404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ДОМИНАНТНИ ХОМОЗИГО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6"/>
          <p:cNvSpPr/>
          <p:nvPr/>
        </p:nvSpPr>
        <p:spPr>
          <a:xfrm>
            <a:off x="3809880" y="3429000"/>
            <a:ext cx="2819520" cy="4597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ХЕТЕРОЗИГО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7"/>
          <p:cNvSpPr/>
          <p:nvPr/>
        </p:nvSpPr>
        <p:spPr>
          <a:xfrm>
            <a:off x="1752480" y="5715000"/>
            <a:ext cx="4114800" cy="4597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РЕЦЕСИВНИ ХОМОЗИГОТ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8"/>
          <p:cNvSpPr/>
          <p:nvPr/>
        </p:nvSpPr>
        <p:spPr>
          <a:xfrm>
            <a:off x="1295280" y="4495680"/>
            <a:ext cx="38124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9"/>
          <p:cNvSpPr/>
          <p:nvPr/>
        </p:nvSpPr>
        <p:spPr>
          <a:xfrm>
            <a:off x="762120" y="449568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Митохондријални геном - материнско наслеђивање</a:t>
            </a:r>
            <a:br>
              <a:rPr sz="3500"/>
            </a:b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25. хромозом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6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ffff00"/>
                </a:solidFill>
                <a:latin typeface="Constantia"/>
              </a:rPr>
              <a:t>    </a:t>
            </a:r>
            <a:r>
              <a:rPr b="1" lang="en-US" sz="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6699"/>
                </a:solidFill>
                <a:latin typeface="Constantia"/>
              </a:rPr>
              <a:t>          </a:t>
            </a:r>
            <a:r>
              <a:rPr b="1" lang="sr-CS" sz="1700" spc="-1" strike="noStrike" u="sng">
                <a:solidFill>
                  <a:srgbClr val="0f6fc6"/>
                </a:solidFill>
                <a:uFillTx/>
                <a:latin typeface="Constantia"/>
              </a:rPr>
              <a:t>Митохондријална ДНК</a:t>
            </a:r>
            <a:r>
              <a:rPr b="1" lang="sr-CS" sz="1700" spc="-1" strike="noStrike">
                <a:solidFill>
                  <a:srgbClr val="0f6fc6"/>
                </a:solidFill>
                <a:latin typeface="Constantia"/>
              </a:rPr>
              <a:t>                                         </a:t>
            </a:r>
            <a:r>
              <a:rPr b="1" lang="sr-CS" sz="1700" spc="-1" strike="noStrike" u="sng">
                <a:solidFill>
                  <a:srgbClr val="0f6fc6"/>
                </a:solidFill>
                <a:uFillTx/>
                <a:latin typeface="Constantia"/>
              </a:rPr>
              <a:t>Једарна ДНК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ДНК је дуга  16.569 bp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3 </a:t>
            </a:r>
            <a:r>
              <a:rPr b="1" lang="sr-RS" sz="17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00. 000. 000 bp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хромозом  циркуларног облика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24 хромозома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ДНК није у контексту са хистонима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 контексту са  хистоним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Не де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шава се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rossing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ver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                                   де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шава се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rossing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Репаративни механизми су спорији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ефикасна репарација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Нема интрона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дисконтинуирана гра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Гени се јављају у већем броју копија                      једна копиј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бухвата 37 гена од којих 24 кодирају РНК  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д 20 000-25 000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ген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(22 тРНК и 2 рРНК), осталих 13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кодирају протеине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9044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тски код хума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 је јединствен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л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чит од једарног к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А и А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G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о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писани са једарне ДНК кодирају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аргин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 са </a:t>
            </a:r>
            <a:r>
              <a:rPr b="0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мтДНК су стоп кодо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UG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писан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са једарне ДНК је </a:t>
            </a: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сто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а са митохондријалне ДНК кодира  </a:t>
            </a:r>
            <a:r>
              <a:rPr b="0" lang="sr-Latn-CS" sz="2000" spc="-1" strike="noStrike">
                <a:solidFill>
                  <a:srgbClr val="0070c0"/>
                </a:solidFill>
                <a:latin typeface="Arial"/>
                <a:ea typeface="Arial"/>
              </a:rPr>
              <a:t>триптоф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U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он у једру одређује </a:t>
            </a:r>
            <a:r>
              <a:rPr b="0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изолеуц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а у митохондријама  одређује </a:t>
            </a:r>
            <a:r>
              <a:rPr b="0" lang="sr-RS" sz="2000" spc="-1" strike="noStrike">
                <a:solidFill>
                  <a:srgbClr val="0070c0"/>
                </a:solidFill>
                <a:latin typeface="Arial"/>
                <a:ea typeface="Arial"/>
              </a:rPr>
              <a:t>метион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д укупно 64 кодона,  у митохондријама 60 кодона кодира амино-киселину (у једру 61), а 4 су стоп кодон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AA, UAG, AGA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G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еволуције долазило је до рекомбинације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тДНК и ДНК хромозома, па се тако ген за субјединицу 9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аз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лази на ДНК хромозома код човека, а код квасца на мтДН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или гени за неколико субједини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D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уктазе се налазе у мтДНК сисара, а нема их у мтДНК квасц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биљака и неких животиња су запажене кратке секвенце мтДНК у једарној ДНК, али изгледа да се оне не преписуј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04920" y="1218960"/>
            <a:ext cx="853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пликација се одвија помоћу полимеразе која долази вероватно из цитоплаз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ју ф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пска својства-материнско насл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вањ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е боле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које настају услед поремећаја оксидативне фосфорилације (одвија се митохондријама)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есто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 мутације мтДНК и преносе се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матроклино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Генотип, геном, феноти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еноти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гена у орг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 је скуп гена у ћелиј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 је комбинација генских алела која детерминише неку особину (А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Г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гена у хаплоидној хромозомској гарнитур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Феноти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особина организма које настају услед интеракције генотипа и фактора сре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sr-CS" sz="3900" spc="-1" strike="noStrike">
                <a:solidFill>
                  <a:srgbClr val="000000"/>
                </a:solidFill>
                <a:latin typeface="Arial"/>
                <a:ea typeface="Arial"/>
              </a:rPr>
              <a:t>Хумани геном</a:t>
            </a:r>
            <a:br>
              <a:rPr sz="3900"/>
            </a:b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Једарни гено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НК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00 000 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у хаплоидном хромозомском сету,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а се у 24 различита хромозома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Митохондријални геном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25. хромозом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кружна ДНК величине 16.569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, један кружни хромозом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ен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секвенца ДНК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ја детер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е синтезу ф-налног молекула (протеин или РНК молеку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што се целом дужином хромозома просторе ДНК, значи да су гени распоређени дуж хромозома (</a:t>
            </a: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ски локу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ск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мапа</a:t>
            </a:r>
            <a:r>
              <a:rPr b="1" lang="en-US" sz="22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поред гена на хромозом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Genes&amp;DNA"/>
          <p:cNvPicPr/>
          <p:nvPr/>
        </p:nvPicPr>
        <p:blipFill>
          <a:blip r:embed="rId1">
            <a:grayscl/>
          </a:blip>
          <a:srcRect l="0" t="0" r="0" b="11166"/>
          <a:stretch/>
        </p:blipFill>
        <p:spPr>
          <a:xfrm>
            <a:off x="4648320" y="2111400"/>
            <a:ext cx="4038480" cy="39844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160" y="1447560"/>
            <a:ext cx="7848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ункције ге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оси информацију за синтезу 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ог молекула, протеина или 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ауторепродукције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3399"/>
                </a:solidFill>
                <a:latin typeface="Arial"/>
                <a:ea typeface="Arial"/>
              </a:rPr>
              <a:t>Структура гена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зависи од распореда и редоследа 4 типа нуклеотида (А тип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ип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ип, Т тип нуклеотида)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6" descr="Click for a 3D View of a small double helix of 4 nucleotides or a bigger B helix form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46479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дарн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у еукариота алтернирају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кодира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некодира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секвен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сконтинуирана грађ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4" descr="RNA%20senthesis%20processing"/>
          <p:cNvPicPr/>
          <p:nvPr/>
        </p:nvPicPr>
        <p:blipFill>
          <a:blip r:embed="rId1"/>
          <a:srcRect l="0" t="0" r="0" b="47397"/>
          <a:stretch/>
        </p:blipFill>
        <p:spPr>
          <a:xfrm>
            <a:off x="914400" y="1666800"/>
            <a:ext cx="6705720" cy="35226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7" name="Rectangle 6"/>
          <p:cNvSpPr/>
          <p:nvPr/>
        </p:nvSpPr>
        <p:spPr>
          <a:xfrm>
            <a:off x="1905120" y="5189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дирајућа секвенца -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г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кодирајућа секвенца –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инт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609480" y="5943600"/>
            <a:ext cx="8229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onstantia"/>
              </a:rPr>
              <a:t>Гени у једарном геному који немају интроне су гени за хистоне и интерфер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3399"/>
                </a:solidFill>
                <a:latin typeface="Arial"/>
                <a:ea typeface="Arial"/>
              </a:rPr>
              <a:t>Величина г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хуманог гена од 1000 до милион и виш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Најмањи ген у хуманом геному је ген за хистон Н4 -1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, такође и ген за инсулин -14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ген у хуманом геному је дистрофин ген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 400 000 b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3399"/>
                </a:solidFill>
                <a:latin typeface="Arial"/>
                <a:ea typeface="Arial"/>
              </a:rPr>
              <a:t>Број једарних гена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" y="1600200"/>
            <a:ext cx="880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овек им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0.000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5.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000 гена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(око 2% генома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мад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б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упн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ужин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Н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указала на много већи број ге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овек не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олико гена зато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шт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ису сви делови ДНК активни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- наиме активно је мање од 2% геном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90% гена код човека кодира синтезу полипептида, а 10% одређује РНК молекуле који се не преводе у п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ине (рРНК и тРНК, </a:t>
            </a:r>
            <a:r>
              <a:rPr b="0" lang="sr-Latn-RS" sz="2600" spc="-1" strike="noStrike">
                <a:solidFill>
                  <a:srgbClr val="000000"/>
                </a:solidFill>
                <a:latin typeface="Arial"/>
                <a:ea typeface="Arial"/>
              </a:rPr>
              <a:t>snRNK...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Olivera Milošević-Đorđević</cp:lastModifiedBy>
  <dcterms:modified xsi:type="dcterms:W3CDTF">2023-01-31T18:31:50Z</dcterms:modified>
  <cp:revision>99</cp:revision>
  <dc:subject/>
  <dc:title>2-Humani genom</dc:title>
</cp:coreProperties>
</file>